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wmf" ContentType="image/x-wmf"/>
  <Override PartName="/ppt/media/image1.jpeg" ContentType="image/jpeg"/>
  <Override PartName="/ppt/media/image2.wmf" ContentType="image/x-wmf"/>
  <Override PartName="/ppt/media/image3.png" ContentType="image/png"/>
  <Override PartName="/ppt/media/image11.wmf" ContentType="image/x-wmf"/>
  <Override PartName="/ppt/media/image6.wmf" ContentType="image/x-wmf"/>
  <Override PartName="/ppt/media/type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4.png" ContentType="image/png"/>
  <Override PartName="/ppt/media/drumroll.wav" ContentType="audio/x-wav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B87-CE04-4276-A0C5-F38060D4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993-7362-423E-8B8C-DC4B5A2F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F3A-EC66-4F3E-A30B-2B4D145B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073-6FBF-46D6-99B1-D6C23C3B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9A01-2723-4974-956B-752191C7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9C2E-0CF5-47CA-AEE3-C4E8B835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D80-9C77-4B78-9BDF-5C8EB94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3E48-3C42-4C28-870A-7A502379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D00C-48D3-41AC-9F19-2B308A5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A2A9-8DCB-45FA-B1C1-E6677F01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6C33-6BDE-4197-B80A-33C833F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4AD-65AF-4813-90FD-136C4BAB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644C-A4AA-408B-BE54-2AABD3C3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8F5D-22A6-4788-8C18-4CE3F071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83EA-33F9-496A-ACC9-5947888C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287F-BDF3-4B7E-8E4B-5BE85503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C87C-1423-47C9-BCE2-4D71BBDF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617-60E1-47B7-A911-B648141D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63B-C4DC-4437-B7F8-8D684BB2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686-B449-45E7-AF5C-C45656D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39D-C3B5-4B0A-B3F5-6E4D9D04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F1B-6FC5-4627-906E-2090A0B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7C1-D51F-4367-8B30-8AC82B16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F39-4E0E-4BB3-9E58-4E4D1AE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656400" y="6499080"/>
            <a:ext cx="18781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9999"/>
                </a:solidFill>
                <a:latin typeface="Arial"/>
              </a:rPr>
              <a:t>Přejít na první stránku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052A-8A3D-42C7-A7F6-84CEA134D5A3}" type="slidenum">
              <a:rPr b="0" lang="cs-CZ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1640" y="372600"/>
            <a:ext cx="7237440" cy="15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6670800" y="6499080"/>
            <a:ext cx="1863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9999"/>
                </a:solidFill>
                <a:latin typeface="Arial"/>
              </a:rPr>
              <a:t>Přejít na první stránku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27BD-4FC7-4448-8B92-08F023AB3D7E}" type="slidenum">
              <a:rPr b="0" lang="cs-CZ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0760" y="625320"/>
            <a:ext cx="85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Papyrus"/>
                <a:ea typeface="Times New Roman"/>
              </a:rPr>
              <a:t>CLATHRATES BASED ON HYALURONIC ACID</a:t>
            </a:r>
            <a:r>
              <a:rPr b="1" lang="en-US" sz="48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Papyrus"/>
                <a:ea typeface="Times New Roman"/>
              </a:rPr>
              <a:t>Development of viscoelastic materials for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Papyrus"/>
                <a:ea typeface="Times New Roman"/>
              </a:rPr>
              <a:t>osteoarticular application</a:t>
            </a:r>
            <a:r>
              <a:rPr b="1" lang="en-US" sz="28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1" name="logo fidia (nero)" descr=""/>
          <p:cNvPicPr/>
          <p:nvPr/>
        </p:nvPicPr>
        <p:blipFill>
          <a:blip r:embed="rId1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89240" y="468648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66"/>
                </a:solidFill>
                <a:latin typeface="Papyrus"/>
              </a:rPr>
              <a:t>Gilda De Luca, Davide Renier, Günter Kirschn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74600" y="5319720"/>
          <a:ext cx="6192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5319720"/>
                    <a:ext cx="619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400040" y="5443560"/>
            <a:ext cx="642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99"/>
                </a:solidFill>
                <a:latin typeface="Papyrus"/>
              </a:rPr>
              <a:t>i</a:t>
            </a:r>
            <a:r>
              <a:rPr b="1" lang="it-IT" sz="2400" spc="-1" strike="noStrike">
                <a:solidFill>
                  <a:srgbClr val="003399"/>
                </a:solidFill>
                <a:latin typeface="Papyrus"/>
              </a:rPr>
              <a:t>dea PATENTED by </a:t>
            </a:r>
            <a:r>
              <a:rPr b="1" lang="it-IT" sz="2400" spc="-1" strike="noStrike" u="sng">
                <a:solidFill>
                  <a:srgbClr val="003399"/>
                </a:solidFill>
                <a:uFillTx/>
                <a:latin typeface="Papyrus"/>
              </a:rPr>
              <a:t>L. </a:t>
            </a:r>
            <a:r>
              <a:rPr b="1" lang="sk-SK" sz="2400" spc="-1" strike="noStrike" u="sng">
                <a:solidFill>
                  <a:srgbClr val="003399"/>
                </a:solidFill>
                <a:uFillTx/>
                <a:latin typeface="Papyrus"/>
              </a:rPr>
              <a:t>Šoltés </a:t>
            </a:r>
            <a:r>
              <a:rPr b="1" i="1" lang="sk-SK" sz="2400" spc="-1" strike="noStrike" u="sng">
                <a:solidFill>
                  <a:srgbClr val="003399"/>
                </a:solidFill>
                <a:uFillTx/>
                <a:latin typeface="Papyrus"/>
              </a:rPr>
              <a:t>et al</a:t>
            </a:r>
            <a:r>
              <a:rPr b="1" lang="sk-SK" sz="2400" spc="-1" strike="noStrike">
                <a:solidFill>
                  <a:srgbClr val="003399"/>
                </a:solidFill>
                <a:latin typeface="Papyrus"/>
              </a:rPr>
              <a:t>., EP 127253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Papyrus"/>
                <a:ea typeface="Times New Roman"/>
              </a:rPr>
              <a:t>Preliminary conclusion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1" name="logo fidia (nero)" descr=""/>
          <p:cNvPicPr/>
          <p:nvPr/>
        </p:nvPicPr>
        <p:blipFill>
          <a:blip r:embed="rId1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1905120"/>
            <a:ext cx="838188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Papyrus"/>
              </a:rPr>
              <a:t>Novel HA-CD derivatives were prepared by direct esterification or through insertion of a spacer.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pyrus"/>
                <a:ea typeface="Times New Roman"/>
              </a:rPr>
              <a:t>HA-adamantane derivative was prepared with dynamic viscosity characteristics </a:t>
            </a:r>
            <a:r>
              <a:rPr b="1" lang="en-US" sz="4400" spc="-1" strike="noStrike" u="sng">
                <a:solidFill>
                  <a:srgbClr val="cc0066"/>
                </a:solidFill>
                <a:uFillTx/>
                <a:latin typeface="Papyrus"/>
                <a:ea typeface="Times New Roman"/>
              </a:rPr>
              <a:t>superior</a:t>
            </a:r>
            <a:r>
              <a:rPr b="1" lang="en-US" sz="3600" spc="-1" strike="noStrike">
                <a:solidFill>
                  <a:srgbClr val="ff9966"/>
                </a:solidFill>
                <a:latin typeface="Papyrus"/>
                <a:ea typeface="Times New Roman"/>
              </a:rPr>
              <a:t> to those of native HA.</a:t>
            </a:r>
            <a:r>
              <a:rPr b="1" lang="en-US" sz="36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3" name="logo fidia (nero)" descr=""/>
          <p:cNvPicPr/>
          <p:nvPr/>
        </p:nvPicPr>
        <p:blipFill>
          <a:blip r:embed="rId2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65200" y="1949400"/>
            <a:ext cx="827388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966"/>
                </a:solidFill>
                <a:latin typeface="Papyrus"/>
                <a:ea typeface="Times New Roman"/>
              </a:rPr>
              <a:t>Introduction of spacers of various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966"/>
                </a:solidFill>
                <a:latin typeface="Papyrus"/>
                <a:ea typeface="Times New Roman"/>
              </a:rPr>
              <a:t>length between CD and HA or between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966"/>
                </a:solidFill>
                <a:latin typeface="Papyrus"/>
                <a:ea typeface="Times New Roman"/>
              </a:rPr>
              <a:t>adamantane and HA in order to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3399"/>
                </a:solidFill>
                <a:uFillTx/>
                <a:latin typeface="Papyrus"/>
                <a:ea typeface="Times New Roman"/>
              </a:rPr>
              <a:t>facilitate formation of clathrates</a:t>
            </a:r>
            <a:r>
              <a:rPr b="1" lang="en-US" sz="36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5" name="logo fidia (nero)" descr=""/>
          <p:cNvPicPr/>
          <p:nvPr/>
        </p:nvPicPr>
        <p:blipFill>
          <a:blip r:embed="rId1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pic>
        <p:nvPicPr>
          <p:cNvPr id="146" name="logo fidia (nero)" descr=""/>
          <p:cNvPicPr/>
          <p:nvPr/>
        </p:nvPicPr>
        <p:blipFill>
          <a:blip r:embed="rId2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62320" y="36648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Papyrus"/>
                <a:ea typeface="Times New Roman"/>
              </a:rPr>
              <a:t>Future activities</a:t>
            </a:r>
            <a:r>
              <a:rPr b="1" lang="en-US" sz="4800" spc="-1" strike="noStrike">
                <a:solidFill>
                  <a:srgbClr val="336699"/>
                </a:solidFill>
                <a:latin typeface="Papyrus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8" name="logo fidia (nero)" descr=""/>
          <p:cNvPicPr/>
          <p:nvPr/>
        </p:nvPicPr>
        <p:blipFill>
          <a:blip r:embed="rId3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1080" y="0"/>
            <a:ext cx="6975720" cy="8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ecently published new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826920"/>
          <a:ext cx="9144000" cy="603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6920"/>
                    <a:ext cx="914400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flipV="1">
            <a:off x="1273320" y="349056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2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360" y="843120"/>
            <a:ext cx="9144000" cy="6014880"/>
          </a:xfrm>
          <a:prstGeom prst="rect">
            <a:avLst/>
          </a:prstGeom>
          <a:solidFill>
            <a:srgbClr val="ffff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89040" y="896760"/>
          <a:ext cx="6159600" cy="59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896760"/>
                    <a:ext cx="6159600" cy="59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90760" y="2938320"/>
          <a:ext cx="7653240" cy="227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0760" y="2938320"/>
                    <a:ext cx="7653240" cy="22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85680" y="150840"/>
            <a:ext cx="6095880" cy="74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our kitche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360" y="843120"/>
            <a:ext cx="9144000" cy="6014880"/>
          </a:xfrm>
          <a:prstGeom prst="rect">
            <a:avLst/>
          </a:prstGeom>
          <a:solidFill>
            <a:srgbClr val="ffff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85680" y="150840"/>
            <a:ext cx="6095880" cy="74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our kitche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89040" y="896760"/>
          <a:ext cx="6159600" cy="59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896760"/>
                    <a:ext cx="6159600" cy="59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979720" y="2498760"/>
          <a:ext cx="3019320" cy="26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9720" y="2498760"/>
                    <a:ext cx="301932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85680" y="150840"/>
            <a:ext cx="6095880" cy="74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our kitche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830160"/>
          <a:ext cx="917892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0160"/>
                    <a:ext cx="917892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523880" y="2133720"/>
          <a:ext cx="1343160" cy="12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133720"/>
                    <a:ext cx="13431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360" y="843120"/>
            <a:ext cx="9144000" cy="6014880"/>
          </a:xfrm>
          <a:prstGeom prst="rect">
            <a:avLst/>
          </a:prstGeom>
          <a:solidFill>
            <a:srgbClr val="ffff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680" y="5000760"/>
            <a:ext cx="897264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ffect of sodium naproxen on HA degradation induced by an artificial inflammation induced b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) </a:t>
            </a:r>
            <a:r>
              <a:rPr b="1" lang="sk-SK" sz="2000" spc="-1" strike="noStrike">
                <a:solidFill>
                  <a:srgbClr val="00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sk-SK" sz="20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l-G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μ</a:t>
            </a:r>
            <a:r>
              <a:rPr b="1" lang="sk-SK" sz="2000" spc="-1" strike="noStrike">
                <a:solidFill>
                  <a:srgbClr val="003399"/>
                </a:solidFill>
                <a:latin typeface="Times New Roman"/>
              </a:rPr>
              <a:t>M CuCl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sk-SK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plus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100 </a:t>
            </a:r>
            <a:r>
              <a:rPr b="1" lang="el-G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μ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M ascorbic acid </a:t>
            </a: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plus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3399"/>
                </a:solidFill>
                <a:latin typeface="Times New Roman"/>
              </a:rPr>
              <a:t>50 </a:t>
            </a:r>
            <a:r>
              <a:rPr b="1" lang="el-G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μ</a:t>
            </a:r>
            <a:r>
              <a:rPr b="1" lang="sk-SK" sz="2000" spc="-1" strike="noStrike">
                <a:solidFill>
                  <a:srgbClr val="003399"/>
                </a:solidFill>
                <a:latin typeface="Times New Roman"/>
              </a:rPr>
              <a:t>M H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sk-SK" sz="20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OH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B) 0.1 </a:t>
            </a:r>
            <a:r>
              <a:rPr b="1" lang="el-G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μ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 CuCl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plus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100 </a:t>
            </a:r>
            <a:r>
              <a:rPr b="1" lang="el-G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μ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 ascorbic acid </a:t>
            </a: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plus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2 mM NaOCl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HOCl/</a:t>
            </a:r>
            <a:r>
              <a:rPr b="1" lang="en-US" sz="3200" spc="-1" strike="noStrike" baseline="30000">
                <a:solidFill>
                  <a:srgbClr val="ff0066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OC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0000" y="1249200"/>
          <a:ext cx="4695840" cy="36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0000" y="1249200"/>
                    <a:ext cx="4695840" cy="36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7520" y="1276200"/>
          <a:ext cx="4705560" cy="364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20" y="1276200"/>
                    <a:ext cx="4705560" cy="36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85680" y="150840"/>
            <a:ext cx="6095880" cy="74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our kitche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360" y="843120"/>
            <a:ext cx="9144000" cy="6014880"/>
          </a:xfrm>
          <a:prstGeom prst="rect">
            <a:avLst/>
          </a:prstGeom>
          <a:solidFill>
            <a:srgbClr val="ffff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0920" y="47160"/>
            <a:ext cx="60958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uture approach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85680" y="4886280"/>
            <a:ext cx="897264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its function would b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o block the associ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o protect the engineered tissue against oxidative damage</a:t>
            </a:r>
            <a:r>
              <a:rPr b="0" lang="cs-CZ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47800"/>
            <a:ext cx="9144000" cy="385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Times New Roman"/>
              </a:rPr>
              <a:t>… </a:t>
            </a:r>
            <a:r>
              <a:rPr b="1" lang="en-US" sz="3800" spc="-1" strike="noStrike">
                <a:solidFill>
                  <a:srgbClr val="ff0066"/>
                </a:solidFill>
                <a:latin typeface="Times New Roman"/>
              </a:rPr>
              <a:t>and what about to apply an antioxidant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66"/>
                </a:solidFill>
                <a:latin typeface="Times New Roman"/>
              </a:rPr>
              <a:t>as the competitor?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2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020600" y="5180040"/>
          <a:ext cx="6192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5180040"/>
                    <a:ext cx="619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4048200" y="2763720"/>
            <a:ext cx="509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Thank you for your attention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80000" y="5024520"/>
            <a:ext cx="5095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57960" y="6389640"/>
            <a:ext cx="2786040" cy="468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0893E-006 L 0.25 -0.3331 E">
                                      <p:cBhvr>
                                        <p:cTn id="13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925" fill="hold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50" dur="307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51" dur="3075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52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53" dur="3075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54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380520"/>
            <a:ext cx="7894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Papyrus"/>
                <a:ea typeface="Times New Roman"/>
              </a:rPr>
              <a:t>Objectives of the project</a:t>
            </a:r>
            <a:r>
              <a:rPr b="1" lang="en-US" sz="2400" spc="-1" strike="noStrike">
                <a:solidFill>
                  <a:srgbClr val="336699"/>
                </a:solidFill>
                <a:latin typeface="Papyrus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3240" y="1572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Papyrus"/>
                <a:ea typeface="Times New Roman"/>
              </a:rPr>
              <a:t>To develop novel HA materials whose rheological properties would result from the formation of a clathrate.</a:t>
            </a:r>
            <a:r>
              <a:rPr b="1" lang="en-US" sz="24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Papyrus"/>
                <a:ea typeface="Times New Roman"/>
              </a:rPr>
              <a:t>This result can be achieved by:</a:t>
            </a:r>
            <a:r>
              <a:rPr b="0" lang="en-US" sz="24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cc"/>
                </a:solidFill>
                <a:latin typeface="Papyrus"/>
                <a:ea typeface="Times New Roman"/>
              </a:rPr>
              <a:t>preparation of </a:t>
            </a:r>
            <a:r>
              <a:rPr b="1" lang="en-US" sz="2300" spc="-1" strike="noStrike">
                <a:solidFill>
                  <a:srgbClr val="ff33cc"/>
                </a:solidFill>
                <a:latin typeface="Symbol"/>
                <a:ea typeface="Symbol"/>
              </a:rPr>
              <a:t></a:t>
            </a:r>
            <a:r>
              <a:rPr b="1" lang="en-US" sz="2300" spc="-1" strike="noStrike">
                <a:solidFill>
                  <a:srgbClr val="ff33cc"/>
                </a:solidFill>
                <a:latin typeface="Papyrus"/>
                <a:ea typeface="Times New Roman"/>
              </a:rPr>
              <a:t>-cyclodextrin (</a:t>
            </a:r>
            <a:r>
              <a:rPr b="1" lang="en-US" sz="2300" spc="-1" strike="noStrike">
                <a:solidFill>
                  <a:srgbClr val="ff33cc"/>
                </a:solidFill>
                <a:latin typeface="Symbol"/>
                <a:ea typeface="Symbol"/>
              </a:rPr>
              <a:t></a:t>
            </a:r>
            <a:r>
              <a:rPr b="1" lang="en-US" sz="2300" spc="-1" strike="noStrike">
                <a:solidFill>
                  <a:srgbClr val="ff33cc"/>
                </a:solidFill>
                <a:latin typeface="Papyrus"/>
                <a:ea typeface="Times New Roman"/>
              </a:rPr>
              <a:t>-CD) derivative of HA </a:t>
            </a:r>
            <a:r>
              <a:rPr b="1" lang="en-US" sz="2300" spc="-1" strike="noStrike">
                <a:solidFill>
                  <a:srgbClr val="ff33cc"/>
                </a:solidFill>
                <a:latin typeface="Papyrus"/>
              </a:rPr>
              <a:t> </a:t>
            </a:r>
            <a:endParaRPr b="0" lang="en-US" sz="23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cc"/>
                </a:solidFill>
                <a:latin typeface="Papyrus"/>
                <a:ea typeface="Times New Roman"/>
              </a:rPr>
              <a:t>preparation of adamantane derivative of HA</a:t>
            </a:r>
            <a:r>
              <a:rPr b="1" lang="en-US" sz="23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23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Papyrus"/>
                <a:ea typeface="Times New Roman"/>
              </a:rPr>
              <a:t>The association of the two HA derivatives should lead to </a:t>
            </a:r>
            <a:r>
              <a:rPr b="1" i="1" lang="en-US" sz="2400" spc="-1" strike="noStrike">
                <a:solidFill>
                  <a:srgbClr val="003399"/>
                </a:solidFill>
                <a:latin typeface="Papyrus"/>
                <a:ea typeface="Times New Roman"/>
              </a:rPr>
              <a:t>in situ</a:t>
            </a:r>
            <a:r>
              <a:rPr b="1" lang="en-US" sz="2400" spc="-1" strike="noStrike">
                <a:solidFill>
                  <a:srgbClr val="003399"/>
                </a:solidFill>
                <a:latin typeface="Papyrus"/>
                <a:ea typeface="Times New Roman"/>
              </a:rPr>
              <a:t> formation of a polymeric network with enhanced viscoelastic properties.</a:t>
            </a:r>
            <a:r>
              <a:rPr b="1" lang="en-US" sz="10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8" name="logo fidia (nero)" descr=""/>
          <p:cNvPicPr/>
          <p:nvPr/>
        </p:nvPicPr>
        <p:blipFill>
          <a:blip r:embed="rId1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pic>
        <p:nvPicPr>
          <p:cNvPr id="99" name="logo fidia (nero)" descr=""/>
          <p:cNvPicPr/>
          <p:nvPr/>
        </p:nvPicPr>
        <p:blipFill>
          <a:blip r:embed="rId2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914400"/>
            <a:ext cx="845820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Papyrus"/>
                <a:ea typeface="Times New Roman"/>
              </a:rPr>
              <a:t>Synthesis of HA-cyclodextrin derivative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9999"/>
                </a:solidFill>
                <a:latin typeface="Papyrus"/>
                <a:ea typeface="Times New Roman"/>
              </a:rPr>
              <a:t>Direct esterification</a:t>
            </a:r>
            <a:r>
              <a:rPr b="0" lang="en-US" sz="24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Papyrus"/>
                <a:ea typeface="Times New Roman"/>
              </a:rPr>
              <a:t>HA-COOH + HO-CD → HA-COO-C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009999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9999"/>
                </a:solidFill>
                <a:latin typeface="Papyrus"/>
                <a:ea typeface="Times New Roman"/>
              </a:rPr>
              <a:t>Introduction of a spacer e.g. 3-hydroxypropionic acid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99"/>
                </a:solidFill>
                <a:latin typeface="Papyrus"/>
                <a:ea typeface="Times New Roman"/>
              </a:rPr>
              <a:t> 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Papyrus"/>
                <a:ea typeface="Times New Roman"/>
              </a:rPr>
              <a:t>HA-COOH + HO-CH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Papyrus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Papyrus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Papyrus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Papyrus"/>
                <a:ea typeface="Times New Roman"/>
              </a:rPr>
              <a:t>COOH + HO-CD → HA-COO-CH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Papyrus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Papyrus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Papyrus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Papyrus"/>
                <a:ea typeface="Times New Roman"/>
              </a:rPr>
              <a:t>COO-C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1" name="logo fidia (nero)" descr=""/>
          <p:cNvPicPr/>
          <p:nvPr/>
        </p:nvPicPr>
        <p:blipFill>
          <a:blip r:embed="rId1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pic>
        <p:nvPicPr>
          <p:cNvPr id="102" name="logo fidia (nero)" descr=""/>
          <p:cNvPicPr/>
          <p:nvPr/>
        </p:nvPicPr>
        <p:blipFill>
          <a:blip r:embed="rId2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1120" y="808200"/>
            <a:ext cx="838188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Papyrus"/>
                <a:ea typeface="Times New Roman"/>
              </a:rPr>
              <a:t>Synthesis of HA-adamantane derivative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9999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9999"/>
                </a:solidFill>
                <a:latin typeface="Papyrus"/>
                <a:ea typeface="Times New Roman"/>
              </a:rPr>
              <a:t>Formation of amid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Papyrus"/>
                <a:ea typeface="Times New Roman"/>
              </a:rPr>
              <a:t>HA-COOH + ADAM-NH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Papyrus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Papyrus"/>
                <a:ea typeface="Times New Roman"/>
              </a:rPr>
              <a:t> → HA-CONH-ADA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Papyrus"/>
                <a:ea typeface="Times New Roman"/>
              </a:rPr>
              <a:t>Degree of substitution (DS) about 2.5 – 5 %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66"/>
                </a:solidFill>
                <a:latin typeface="Papyrus"/>
                <a:ea typeface="Times New Roman"/>
              </a:rPr>
              <a:t>Products are soluble in water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4" name="logo fidia (nero)" descr=""/>
          <p:cNvPicPr/>
          <p:nvPr/>
        </p:nvPicPr>
        <p:blipFill>
          <a:blip r:embed="rId1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pic>
        <p:nvPicPr>
          <p:cNvPr id="105" name="logo fidia (nero)" descr=""/>
          <p:cNvPicPr/>
          <p:nvPr/>
        </p:nvPicPr>
        <p:blipFill>
          <a:blip r:embed="rId2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1120" y="808200"/>
            <a:ext cx="83818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Papyrus"/>
                <a:ea typeface="Times New Roman"/>
              </a:rPr>
              <a:t>HA-adamantane derivative, DS = 2.5 % 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Papyrus"/>
              </a:rPr>
              <a:t>HA in HA-adamantane (600 kDa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Papyrus"/>
              </a:rPr>
              <a:t>Dynamic viscosity of the aqueous solution 9.82 mg/ml at a shear rate 1 s</a:t>
            </a:r>
            <a:r>
              <a:rPr b="1" lang="it-IT" sz="2600" spc="-1" strike="noStrike" baseline="30000">
                <a:solidFill>
                  <a:srgbClr val="009999"/>
                </a:solidFill>
                <a:latin typeface="Papyrus"/>
              </a:rPr>
              <a:t>-1</a:t>
            </a:r>
            <a:r>
              <a:rPr b="1" lang="it-IT" sz="2600" spc="-1" strike="noStrike">
                <a:solidFill>
                  <a:srgbClr val="009999"/>
                </a:solidFill>
                <a:latin typeface="Papyrus"/>
              </a:rPr>
              <a:t> = </a:t>
            </a:r>
            <a:r>
              <a:rPr b="1" lang="it-IT" sz="2600" spc="-1" strike="noStrike" u="sng">
                <a:solidFill>
                  <a:srgbClr val="cc0066"/>
                </a:solidFill>
                <a:uFillTx/>
                <a:latin typeface="Papyrus"/>
              </a:rPr>
              <a:t>60.80 Pa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Papyrus"/>
              </a:rPr>
              <a:t>HA sodium salt 600 kDa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Papyrus"/>
              </a:rPr>
              <a:t>Dynamic viscosity of the aqueous solution 14.1 mg/ml at a shear rate 1 s</a:t>
            </a:r>
            <a:r>
              <a:rPr b="1" lang="it-IT" sz="2600" spc="-1" strike="noStrike" baseline="30000">
                <a:solidFill>
                  <a:srgbClr val="009999"/>
                </a:solidFill>
                <a:latin typeface="Papyrus"/>
              </a:rPr>
              <a:t>-1</a:t>
            </a:r>
            <a:r>
              <a:rPr b="1" lang="it-IT" sz="2600" spc="-1" strike="noStrike">
                <a:solidFill>
                  <a:srgbClr val="009999"/>
                </a:solidFill>
                <a:latin typeface="Papyrus"/>
              </a:rPr>
              <a:t> = </a:t>
            </a:r>
            <a:r>
              <a:rPr b="1" lang="it-IT" sz="2600" spc="-1" strike="noStrike" u="sng">
                <a:solidFill>
                  <a:srgbClr val="ff9966"/>
                </a:solidFill>
                <a:uFillTx/>
                <a:latin typeface="Papyrus"/>
              </a:rPr>
              <a:t>0.40 Pa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7" name="logo fidia (nero)" descr=""/>
          <p:cNvPicPr/>
          <p:nvPr/>
        </p:nvPicPr>
        <p:blipFill>
          <a:blip r:embed="rId1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pic>
        <p:nvPicPr>
          <p:cNvPr id="108" name="logo fidia (nero)" descr=""/>
          <p:cNvPicPr/>
          <p:nvPr/>
        </p:nvPicPr>
        <p:blipFill>
          <a:blip r:embed="rId2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191120" y="533520"/>
            <a:ext cx="2437920" cy="5638680"/>
            <a:chOff x="4191120" y="533520"/>
            <a:chExt cx="2437920" cy="5638680"/>
          </a:xfrm>
        </p:grpSpPr>
        <p:graphicFrame>
          <p:nvGraphicFramePr>
            <p:cNvPr id="110" name=""/>
            <p:cNvGraphicFramePr/>
            <p:nvPr/>
          </p:nvGraphicFramePr>
          <p:xfrm>
            <a:off x="4191120" y="1523880"/>
            <a:ext cx="529920" cy="97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1523880"/>
                      <a:ext cx="529920" cy="97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4724280" y="1904760"/>
              <a:ext cx="177480" cy="37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4647960" y="533520"/>
              <a:ext cx="1981080" cy="5638680"/>
              <a:chOff x="4647960" y="533520"/>
              <a:chExt cx="1981080" cy="5638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4800240" y="533520"/>
                <a:ext cx="1392480" cy="2819520"/>
              </a:xfrm>
              <a:custGeom>
                <a:avLst/>
                <a:gdLst/>
                <a:ahLst/>
                <a:rect l="l" t="t" r="r" b="b"/>
                <a:pathLst>
                  <a:path w="1872" h="3456">
                    <a:moveTo>
                      <a:pt x="696" y="0"/>
                    </a:moveTo>
                    <a:cubicBezTo>
                      <a:pt x="928" y="200"/>
                      <a:pt x="1160" y="400"/>
                      <a:pt x="1080" y="528"/>
                    </a:cubicBezTo>
                    <a:cubicBezTo>
                      <a:pt x="1000" y="656"/>
                      <a:pt x="248" y="640"/>
                      <a:pt x="216" y="768"/>
                    </a:cubicBezTo>
                    <a:cubicBezTo>
                      <a:pt x="184" y="896"/>
                      <a:pt x="904" y="1216"/>
                      <a:pt x="888" y="1296"/>
                    </a:cubicBezTo>
                    <a:cubicBezTo>
                      <a:pt x="872" y="1376"/>
                      <a:pt x="0" y="1072"/>
                      <a:pt x="120" y="1248"/>
                    </a:cubicBezTo>
                    <a:cubicBezTo>
                      <a:pt x="240" y="1424"/>
                      <a:pt x="1376" y="2272"/>
                      <a:pt x="1608" y="2352"/>
                    </a:cubicBezTo>
                    <a:cubicBezTo>
                      <a:pt x="1840" y="2432"/>
                      <a:pt x="1496" y="1816"/>
                      <a:pt x="1512" y="1728"/>
                    </a:cubicBezTo>
                    <a:cubicBezTo>
                      <a:pt x="1528" y="1640"/>
                      <a:pt x="1872" y="1720"/>
                      <a:pt x="1704" y="1824"/>
                    </a:cubicBezTo>
                    <a:cubicBezTo>
                      <a:pt x="1536" y="1928"/>
                      <a:pt x="544" y="2168"/>
                      <a:pt x="504" y="2352"/>
                    </a:cubicBezTo>
                    <a:cubicBezTo>
                      <a:pt x="464" y="2536"/>
                      <a:pt x="1448" y="2744"/>
                      <a:pt x="1464" y="2928"/>
                    </a:cubicBezTo>
                    <a:cubicBezTo>
                      <a:pt x="1480" y="3112"/>
                      <a:pt x="744" y="3368"/>
                      <a:pt x="600" y="3456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4647960" y="3353040"/>
                <a:ext cx="1981080" cy="2819160"/>
                <a:chOff x="4647960" y="3353040"/>
                <a:chExt cx="1981080" cy="2819160"/>
              </a:xfrm>
            </p:grpSpPr>
            <p:graphicFrame>
              <p:nvGraphicFramePr>
                <p:cNvPr id="116" name=""/>
                <p:cNvGraphicFramePr/>
                <p:nvPr/>
              </p:nvGraphicFramePr>
              <p:xfrm>
                <a:off x="4647960" y="4018320"/>
                <a:ext cx="531000" cy="9788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647960" y="4018320"/>
                          <a:ext cx="531000" cy="978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8" name=""/>
                <p:cNvSpPr/>
                <p:nvPr/>
              </p:nvSpPr>
              <p:spPr>
                <a:xfrm>
                  <a:off x="5236920" y="3353040"/>
                  <a:ext cx="1392120" cy="2819160"/>
                </a:xfrm>
                <a:custGeom>
                  <a:avLst/>
                  <a:gdLst/>
                  <a:ahLst/>
                  <a:rect l="l" t="t" r="r" b="b"/>
                  <a:pathLst>
                    <a:path w="1872" h="3456">
                      <a:moveTo>
                        <a:pt x="696" y="0"/>
                      </a:moveTo>
                      <a:cubicBezTo>
                        <a:pt x="928" y="200"/>
                        <a:pt x="1160" y="400"/>
                        <a:pt x="1080" y="528"/>
                      </a:cubicBezTo>
                      <a:cubicBezTo>
                        <a:pt x="1000" y="656"/>
                        <a:pt x="248" y="640"/>
                        <a:pt x="216" y="768"/>
                      </a:cubicBezTo>
                      <a:cubicBezTo>
                        <a:pt x="184" y="896"/>
                        <a:pt x="904" y="1216"/>
                        <a:pt x="888" y="1296"/>
                      </a:cubicBezTo>
                      <a:cubicBezTo>
                        <a:pt x="872" y="1376"/>
                        <a:pt x="0" y="1072"/>
                        <a:pt x="120" y="1248"/>
                      </a:cubicBezTo>
                      <a:cubicBezTo>
                        <a:pt x="240" y="1424"/>
                        <a:pt x="1376" y="2272"/>
                        <a:pt x="1608" y="2352"/>
                      </a:cubicBezTo>
                      <a:cubicBezTo>
                        <a:pt x="1840" y="2432"/>
                        <a:pt x="1496" y="1816"/>
                        <a:pt x="1512" y="1728"/>
                      </a:cubicBezTo>
                      <a:cubicBezTo>
                        <a:pt x="1528" y="1640"/>
                        <a:pt x="1872" y="1720"/>
                        <a:pt x="1704" y="1824"/>
                      </a:cubicBezTo>
                      <a:cubicBezTo>
                        <a:pt x="1536" y="1928"/>
                        <a:pt x="544" y="2168"/>
                        <a:pt x="504" y="2352"/>
                      </a:cubicBezTo>
                      <a:cubicBezTo>
                        <a:pt x="464" y="2536"/>
                        <a:pt x="1448" y="2744"/>
                        <a:pt x="1464" y="2928"/>
                      </a:cubicBezTo>
                      <a:cubicBezTo>
                        <a:pt x="1480" y="3112"/>
                        <a:pt x="744" y="3368"/>
                        <a:pt x="600" y="3456"/>
                      </a:cubicBezTo>
                    </a:path>
                  </a:pathLst>
                </a:custGeom>
                <a:noFill/>
                <a:ln w="93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147640" y="4331880"/>
                  <a:ext cx="178560" cy="3888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" name=""/>
          <p:cNvGrpSpPr/>
          <p:nvPr/>
        </p:nvGrpSpPr>
        <p:grpSpPr>
          <a:xfrm>
            <a:off x="2362320" y="152280"/>
            <a:ext cx="2437920" cy="6477120"/>
            <a:chOff x="2362320" y="152280"/>
            <a:chExt cx="2437920" cy="6477120"/>
          </a:xfrm>
        </p:grpSpPr>
        <p:sp>
          <p:nvSpPr>
            <p:cNvPr id="121" name=""/>
            <p:cNvSpPr/>
            <p:nvPr/>
          </p:nvSpPr>
          <p:spPr>
            <a:xfrm>
              <a:off x="3733560" y="1914480"/>
              <a:ext cx="759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362320" y="152280"/>
              <a:ext cx="2437920" cy="6477120"/>
              <a:chOff x="2362320" y="152280"/>
              <a:chExt cx="2437920" cy="6477120"/>
            </a:xfrm>
          </p:grpSpPr>
          <p:sp>
            <p:nvSpPr>
              <p:cNvPr id="123" name=""/>
              <p:cNvSpPr/>
              <p:nvPr/>
            </p:nvSpPr>
            <p:spPr>
              <a:xfrm>
                <a:off x="3809880" y="1641240"/>
                <a:ext cx="609120" cy="592200"/>
              </a:xfrm>
              <a:prstGeom prst="ellipse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47760" y="3276360"/>
                <a:ext cx="1009440" cy="3353040"/>
              </a:xfrm>
              <a:custGeom>
                <a:avLst/>
                <a:gdLst/>
                <a:ahLst/>
                <a:rect l="l" t="t" r="r" b="b"/>
                <a:pathLst>
                  <a:path w="1272" h="3536">
                    <a:moveTo>
                      <a:pt x="648" y="0"/>
                    </a:moveTo>
                    <a:cubicBezTo>
                      <a:pt x="332" y="252"/>
                      <a:pt x="16" y="504"/>
                      <a:pt x="72" y="720"/>
                    </a:cubicBezTo>
                    <a:cubicBezTo>
                      <a:pt x="128" y="936"/>
                      <a:pt x="992" y="1144"/>
                      <a:pt x="984" y="1296"/>
                    </a:cubicBezTo>
                    <a:cubicBezTo>
                      <a:pt x="976" y="1448"/>
                      <a:pt x="24" y="1432"/>
                      <a:pt x="24" y="1632"/>
                    </a:cubicBezTo>
                    <a:cubicBezTo>
                      <a:pt x="24" y="1832"/>
                      <a:pt x="888" y="2456"/>
                      <a:pt x="984" y="2496"/>
                    </a:cubicBezTo>
                    <a:cubicBezTo>
                      <a:pt x="1080" y="2536"/>
                      <a:pt x="752" y="1784"/>
                      <a:pt x="600" y="1872"/>
                    </a:cubicBezTo>
                    <a:cubicBezTo>
                      <a:pt x="448" y="1960"/>
                      <a:pt x="0" y="2760"/>
                      <a:pt x="72" y="3024"/>
                    </a:cubicBezTo>
                    <a:cubicBezTo>
                      <a:pt x="144" y="3288"/>
                      <a:pt x="848" y="3376"/>
                      <a:pt x="1032" y="3456"/>
                    </a:cubicBezTo>
                    <a:cubicBezTo>
                      <a:pt x="1216" y="3536"/>
                      <a:pt x="1136" y="3496"/>
                      <a:pt x="1176" y="3504"/>
                    </a:cubicBezTo>
                    <a:cubicBezTo>
                      <a:pt x="1216" y="3512"/>
                      <a:pt x="1256" y="3496"/>
                      <a:pt x="1272" y="3504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190760" y="4190040"/>
                <a:ext cx="609480" cy="592200"/>
              </a:xfrm>
              <a:prstGeom prst="ellipse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62320" y="152280"/>
                <a:ext cx="1562040" cy="3200400"/>
              </a:xfrm>
              <a:custGeom>
                <a:avLst/>
                <a:gdLst/>
                <a:ahLst/>
                <a:rect l="l" t="t" r="r" b="b"/>
                <a:pathLst>
                  <a:path w="984" h="2016">
                    <a:moveTo>
                      <a:pt x="984" y="2016"/>
                    </a:moveTo>
                    <a:cubicBezTo>
                      <a:pt x="748" y="1820"/>
                      <a:pt x="512" y="1624"/>
                      <a:pt x="360" y="1536"/>
                    </a:cubicBezTo>
                    <a:cubicBezTo>
                      <a:pt x="208" y="1448"/>
                      <a:pt x="0" y="1544"/>
                      <a:pt x="72" y="1488"/>
                    </a:cubicBezTo>
                    <a:cubicBezTo>
                      <a:pt x="144" y="1432"/>
                      <a:pt x="664" y="1320"/>
                      <a:pt x="792" y="1200"/>
                    </a:cubicBezTo>
                    <a:cubicBezTo>
                      <a:pt x="920" y="1080"/>
                      <a:pt x="920" y="856"/>
                      <a:pt x="840" y="768"/>
                    </a:cubicBezTo>
                    <a:cubicBezTo>
                      <a:pt x="760" y="680"/>
                      <a:pt x="296" y="800"/>
                      <a:pt x="312" y="672"/>
                    </a:cubicBezTo>
                    <a:cubicBezTo>
                      <a:pt x="328" y="544"/>
                      <a:pt x="632" y="272"/>
                      <a:pt x="936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809520" y="4495680"/>
                <a:ext cx="3805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8" name="logo fidia (nero)" descr=""/>
          <p:cNvPicPr/>
          <p:nvPr/>
        </p:nvPicPr>
        <p:blipFill>
          <a:blip r:embed="rId5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pic>
        <p:nvPicPr>
          <p:cNvPr id="129" name="logo fidia (nero)" descr=""/>
          <p:cNvPicPr/>
          <p:nvPr/>
        </p:nvPicPr>
        <p:blipFill>
          <a:blip r:embed="rId6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74680" y="700200"/>
            <a:ext cx="68724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Papyrus"/>
                <a:ea typeface="Times New Roman"/>
              </a:rPr>
              <a:t>Application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Papyrus"/>
                <a:ea typeface="Times New Roman"/>
              </a:rPr>
              <a:t>tissue regeneration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9966"/>
                </a:solidFill>
                <a:latin typeface="Papyrus"/>
                <a:ea typeface="Times New Roman"/>
              </a:rPr>
              <a:t>improvement of the rheological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Papyrus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9966"/>
                </a:solidFill>
                <a:latin typeface="Papyrus"/>
                <a:ea typeface="Times New Roman"/>
              </a:rPr>
              <a:t>characteristics of synovial fluid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Papyrus"/>
                <a:ea typeface="Times New Roman"/>
              </a:rPr>
              <a:t>ophthalmic surgery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Papyru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Papyrus"/>
                <a:ea typeface="Times New Roman"/>
              </a:rPr>
              <a:t>drug carrier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1" name="logo fidia (nero)" descr=""/>
          <p:cNvPicPr/>
          <p:nvPr/>
        </p:nvPicPr>
        <p:blipFill>
          <a:blip r:embed="rId1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pic>
        <p:nvPicPr>
          <p:cNvPr id="132" name="logo fidia (nero)" descr=""/>
          <p:cNvPicPr/>
          <p:nvPr/>
        </p:nvPicPr>
        <p:blipFill>
          <a:blip r:embed="rId2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1360" y="1782720"/>
            <a:ext cx="839772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Papyrus"/>
                <a:ea typeface="Times New Roman"/>
              </a:rPr>
              <a:t>Formation of the gel </a:t>
            </a:r>
            <a:r>
              <a:rPr b="1" i="1" lang="en-US" sz="3600" spc="-1" strike="noStrike">
                <a:solidFill>
                  <a:srgbClr val="009999"/>
                </a:solidFill>
                <a:latin typeface="Papyrus"/>
                <a:ea typeface="Times New Roman"/>
              </a:rPr>
              <a:t>in situ</a:t>
            </a:r>
            <a:r>
              <a:rPr b="1" lang="en-US" sz="3600" spc="-1" strike="noStrike">
                <a:solidFill>
                  <a:srgbClr val="009999"/>
                </a:solidFill>
                <a:latin typeface="Papyrus"/>
                <a:ea typeface="Times New Roman"/>
              </a:rPr>
              <a:t> (intra-articularly)</a:t>
            </a:r>
            <a:r>
              <a:rPr b="1" lang="en-US" sz="36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Papyrus"/>
                <a:ea typeface="Times New Roman"/>
              </a:rPr>
              <a:t>Possibility to deliver - within the solution of the HA-cyclodextrin derivative - pharmacologically active molecules, e.g. NSAID, antioxidant </a:t>
            </a:r>
            <a:r>
              <a:rPr b="1" lang="en-US" sz="2600" spc="-1" strike="noStrike">
                <a:solidFill>
                  <a:srgbClr val="003399"/>
                </a:solidFill>
                <a:latin typeface="Papyrus"/>
                <a:ea typeface="Times New Roman"/>
              </a:rPr>
              <a:t>(released at the moment of formation of the clathrate)</a:t>
            </a:r>
            <a:r>
              <a:rPr b="0" lang="en-US" sz="3600" spc="-1" strike="noStrike">
                <a:solidFill>
                  <a:srgbClr val="009999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4" name="logo fidia (nero)" descr=""/>
          <p:cNvPicPr/>
          <p:nvPr/>
        </p:nvPicPr>
        <p:blipFill>
          <a:blip r:embed="rId1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9360" y="410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Papyrus"/>
                <a:ea typeface="Times New Roman"/>
              </a:rPr>
              <a:t>Advantages of the technology</a:t>
            </a:r>
            <a:r>
              <a:rPr b="1" lang="en-US" sz="4800" spc="-1" strike="noStrike">
                <a:solidFill>
                  <a:srgbClr val="336699"/>
                </a:solidFill>
                <a:latin typeface="Papyrus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6" name="logo fidia (nero)" descr=""/>
          <p:cNvPicPr/>
          <p:nvPr/>
        </p:nvPicPr>
        <p:blipFill>
          <a:blip r:embed="rId2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logo fidia (nero)" descr=""/>
          <p:cNvPicPr/>
          <p:nvPr/>
        </p:nvPicPr>
        <p:blipFill>
          <a:blip r:embed="rId2"/>
          <a:stretch/>
        </p:blipFill>
        <p:spPr>
          <a:xfrm>
            <a:off x="7848720" y="6404040"/>
            <a:ext cx="1295280" cy="453960"/>
          </a:xfrm>
          <a:prstGeom prst="rect">
            <a:avLst/>
          </a:prstGeom>
          <a:ln w="0">
            <a:noFill/>
          </a:ln>
        </p:spPr>
      </p:pic>
      <p:pic>
        <p:nvPicPr>
          <p:cNvPr id="139" name="logo fidia (nero)" descr=""/>
          <p:cNvPicPr/>
          <p:nvPr/>
        </p:nvPicPr>
        <p:blipFill>
          <a:blip r:embed="rId3"/>
          <a:stretch/>
        </p:blipFill>
        <p:spPr>
          <a:xfrm>
            <a:off x="6707160" y="6004080"/>
            <a:ext cx="2436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3:36:26Z</dcterms:created>
  <dc:creator>XX</dc:creator>
  <dc:description/>
  <dc:language>en-US</dc:language>
  <cp:lastModifiedBy>HY</cp:lastModifiedBy>
  <dcterms:modified xsi:type="dcterms:W3CDTF">2006-10-16T14:58:32Z</dcterms:modified>
  <cp:revision>55</cp:revision>
  <dc:subject/>
  <dc:title>PowerPoint Presentation</dc:title>
</cp:coreProperties>
</file>